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6A3-8B1F-42CC-89E1-EC1828F3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FFE-722C-4DA4-AEDB-A5F2B0D5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C9C-357E-466F-B211-0C86CB03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3E1-F071-4338-ABAA-C48E27B2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982-2D71-4AEC-9735-26FD19C3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89D-4188-41DE-9ED3-CA7F593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C61-5FC1-4E41-B1B4-C819EFF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0DE-C105-495B-9807-5557107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798-B564-4D56-9E51-CC6184FE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043-AF1E-4386-939E-D4FF222A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244-E337-434D-9087-D683DFD0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B68-8243-4638-B177-2FEECE5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4FD4-BE3D-4CFC-9173-F38AB93F89F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ividual Differences Among Lear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theories of learning are attempts to describe universal human traits in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‘seek to explain globally how people perceive, filter, store, and recall information’. (Brown, 1994:1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odels of learning do not account for the plethora of differences across individuals in the way they l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e all exhibit inherently human traits of learning, every individual approaches a problem or learns a set of facts from a unique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than individual traits such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ellig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tiv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ttitu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s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vel of first langu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mpathy and 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gnitive vari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ptitu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arning sty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arning strateg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cour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hib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 languag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velopment of individualised instruction is partly due to a wish to release the learners from the need to work at the same 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possibility is to stream students into different classes for different levels of aptitude, say highfliers, average, and below a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ing different teaching methods and final exams for different types of aptitude might not be such a good ideas as this would be a luxury in terms of staffing and expert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over, the student whose performance is dismal in one subject may be gifted in an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us, only in individualised or self-directed learning perhaps can this be overc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common knowledge among teachers that learners differ in their preferences in language lear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need to learn grammatical rules, others claim to know them intuitiv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cannot remember anything unless they write it down, other have very good memo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have been attributed to differences in cognitive or learning styles in individu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styles mediate between emotion and cognition and refer to “the ways a student prefers to go about learning” (Chitravelu et al., 1995: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nitive style has also been defined as “a person’s typical ways of thinking, seen as a continuum between field-dependent cognitive style in which thinking relates to context and field-independent style in which it is independent of context” (Cook, 1991: 8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econd language learning, it may be incorrect to assume that learners should be either field-dependent or field-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more likely that people have general inclinations, but given certain contexts, can exercise some degree of an appropriate sty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ers of different learning styles employ different strategies of learning (De Bono, 1976; Toncheva, 1992; &amp; Chryschocoos, 1992 in Bahiyah, 1993: 3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such, Chitravelu (1995:12) suggests that a teacher should be sensitive to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accommodate the students’ preferences for learning styles and strategies to bring about “improved learner satisfaction and attainment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8:57:51Z</dcterms:created>
  <dc:creator>Owner</dc:creator>
  <dc:description/>
  <dc:language>en-US</dc:language>
  <cp:lastModifiedBy>Buckrie</cp:lastModifiedBy>
  <dcterms:modified xsi:type="dcterms:W3CDTF">2011-12-15T07:34:26Z</dcterms:modified>
  <cp:revision>5</cp:revision>
  <dc:subject/>
  <dc:title>Learning How To Learn</dc:title>
</cp:coreProperties>
</file>